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.gif" ContentType="image/gif"/>
  <Override PartName="/ppt/media/image11.jpeg" ContentType="image/jpeg"/>
  <Override PartName="/ppt/media/image28.jpeg" ContentType="image/jpeg"/>
  <Override PartName="/ppt/media/image15.gif" ContentType="image/gif"/>
  <Override PartName="/ppt/media/image7.jpeg" ContentType="image/jpeg"/>
  <Override PartName="/ppt/media/image18.png" ContentType="image/png"/>
  <Override PartName="/ppt/media/image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D24D6CD-5A9F-49AB-B32C-33D1821F26A1}" type="doc">
      <dgm:prSet loTypeId="urn:microsoft.com/office/officeart/2005/8/layout/chevron1" loCatId="process" qsTypeId="urn:microsoft.com/office/officeart/2005/8/quickstyle/simple2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A92BB3D5-7771-4586-937D-1590B2004369}">
      <dgm:prSet phldrT="[Text]"/>
      <dgm:spPr/>
      <dgm:t>
        <a:bodyPr/>
        <a:lstStyle/>
        <a:p>
          <a:r>
            <a:rPr lang="en-US" dirty="0" smtClean="0"/>
            <a:t>Filter Data</a:t>
          </a:r>
          <a:endParaRPr lang="en-US" dirty="0"/>
        </a:p>
      </dgm:t>
    </dgm:pt>
    <dgm:pt modelId="{9FD8CF54-60DF-45B3-AC1B-FAAB54513484}" type="parTrans" cxnId="{1F6520F6-A9EE-4D88-9FA6-C2936996E078}">
      <dgm:prSet/>
      <dgm:spPr/>
      <dgm:t>
        <a:bodyPr/>
        <a:lstStyle/>
        <a:p>
          <a:endParaRPr lang="en-US"/>
        </a:p>
      </dgm:t>
    </dgm:pt>
    <dgm:pt modelId="{9FCC4D69-C3D0-4FD3-BF5E-F4104BA05DB2}" type="sibTrans" cxnId="{1F6520F6-A9EE-4D88-9FA6-C2936996E078}">
      <dgm:prSet/>
      <dgm:spPr/>
      <dgm:t>
        <a:bodyPr/>
        <a:lstStyle/>
        <a:p>
          <a:endParaRPr lang="en-US"/>
        </a:p>
      </dgm:t>
    </dgm:pt>
    <dgm:pt modelId="{698BE57E-1E2A-42E4-B9F2-52F6D96CFE55}">
      <dgm:prSet phldrT="[Text]"/>
      <dgm:spPr/>
      <dgm:t>
        <a:bodyPr/>
        <a:lstStyle/>
        <a:p>
          <a:r>
            <a:rPr lang="en-US" dirty="0" smtClean="0"/>
            <a:t>Choose relevant dimensions</a:t>
          </a:r>
          <a:endParaRPr lang="en-US" dirty="0"/>
        </a:p>
      </dgm:t>
    </dgm:pt>
    <dgm:pt modelId="{0C124BBE-8860-424D-BBD0-1F94FA875506}" type="parTrans" cxnId="{7475B3FA-E7FC-49DE-B19A-B4B539B676F2}">
      <dgm:prSet/>
      <dgm:spPr/>
      <dgm:t>
        <a:bodyPr/>
        <a:lstStyle/>
        <a:p>
          <a:endParaRPr lang="en-US"/>
        </a:p>
      </dgm:t>
    </dgm:pt>
    <dgm:pt modelId="{D47A50E0-8218-4EF6-85E9-2BBC7ACFB946}" type="sibTrans" cxnId="{7475B3FA-E7FC-49DE-B19A-B4B539B676F2}">
      <dgm:prSet/>
      <dgm:spPr/>
      <dgm:t>
        <a:bodyPr/>
        <a:lstStyle/>
        <a:p>
          <a:endParaRPr lang="en-US"/>
        </a:p>
      </dgm:t>
    </dgm:pt>
    <dgm:pt modelId="{C2F25FFF-BF9D-46ED-B541-AF74EB441800}">
      <dgm:prSet phldrT="[Text]"/>
      <dgm:spPr/>
      <dgm:t>
        <a:bodyPr/>
        <a:lstStyle/>
        <a:p>
          <a:r>
            <a:rPr lang="en-US" dirty="0" smtClean="0"/>
            <a:t>Map to Visual Representation</a:t>
          </a:r>
          <a:endParaRPr lang="en-US" dirty="0"/>
        </a:p>
      </dgm:t>
    </dgm:pt>
    <dgm:pt modelId="{9B84F896-E6E3-426F-8E7B-2B865BAC6752}" type="parTrans" cxnId="{F6E39BBB-FB08-4F43-B534-2E30802F450D}">
      <dgm:prSet/>
      <dgm:spPr/>
      <dgm:t>
        <a:bodyPr/>
        <a:lstStyle/>
        <a:p>
          <a:endParaRPr lang="en-US"/>
        </a:p>
      </dgm:t>
    </dgm:pt>
    <dgm:pt modelId="{B6C2F8A7-3701-4350-BBAC-248EB081722A}" type="sibTrans" cxnId="{F6E39BBB-FB08-4F43-B534-2E30802F450D}">
      <dgm:prSet/>
      <dgm:spPr/>
      <dgm:t>
        <a:bodyPr/>
        <a:lstStyle/>
        <a:p>
          <a:endParaRPr lang="en-US"/>
        </a:p>
      </dgm:t>
    </dgm:pt>
    <dgm:pt modelId="{4214C5AF-E63B-4635-BABB-DF78112E1A3E}">
      <dgm:prSet phldrT="[Text]"/>
      <dgm:spPr/>
      <dgm:t>
        <a:bodyPr/>
        <a:lstStyle/>
        <a:p>
          <a:r>
            <a:rPr lang="en-US" dirty="0" smtClean="0"/>
            <a:t>Position</a:t>
          </a:r>
          <a:endParaRPr lang="en-US" dirty="0"/>
        </a:p>
      </dgm:t>
    </dgm:pt>
    <dgm:pt modelId="{B09C2F08-6910-4E21-856D-A070713DCE5C}" type="parTrans" cxnId="{6BABE8BB-1266-4D21-B91E-5D86A949DD22}">
      <dgm:prSet/>
      <dgm:spPr/>
      <dgm:t>
        <a:bodyPr/>
        <a:lstStyle/>
        <a:p>
          <a:endParaRPr lang="en-US"/>
        </a:p>
      </dgm:t>
    </dgm:pt>
    <dgm:pt modelId="{C351E404-F9F1-4F7D-BC40-46E105B66B59}" type="sibTrans" cxnId="{6BABE8BB-1266-4D21-B91E-5D86A949DD22}">
      <dgm:prSet/>
      <dgm:spPr/>
      <dgm:t>
        <a:bodyPr/>
        <a:lstStyle/>
        <a:p>
          <a:endParaRPr lang="en-US"/>
        </a:p>
      </dgm:t>
    </dgm:pt>
    <dgm:pt modelId="{2AF95CD2-FBC4-4277-A02E-A93326590B19}">
      <dgm:prSet phldrT="[Text]"/>
      <dgm:spPr/>
      <dgm:t>
        <a:bodyPr/>
        <a:lstStyle/>
        <a:p>
          <a:r>
            <a:rPr lang="en-US" dirty="0" smtClean="0"/>
            <a:t>Frame The Visualization</a:t>
          </a:r>
          <a:endParaRPr lang="en-US" dirty="0"/>
        </a:p>
      </dgm:t>
    </dgm:pt>
    <dgm:pt modelId="{F75C7796-EAF5-410A-A69D-9381399A18E0}" type="parTrans" cxnId="{701D5146-2A61-4FC2-AFDC-C49A9638DD97}">
      <dgm:prSet/>
      <dgm:spPr/>
      <dgm:t>
        <a:bodyPr/>
        <a:lstStyle/>
        <a:p>
          <a:endParaRPr lang="en-US"/>
        </a:p>
      </dgm:t>
    </dgm:pt>
    <dgm:pt modelId="{12D7D840-B5C7-418C-BB66-6C5DC9752690}" type="sibTrans" cxnId="{701D5146-2A61-4FC2-AFDC-C49A9638DD97}">
      <dgm:prSet/>
      <dgm:spPr/>
      <dgm:t>
        <a:bodyPr/>
        <a:lstStyle/>
        <a:p>
          <a:endParaRPr lang="en-US"/>
        </a:p>
      </dgm:t>
    </dgm:pt>
    <dgm:pt modelId="{702A384C-24DF-413D-B1B4-6335DC8DFE47}">
      <dgm:prSet phldrT="[Text]"/>
      <dgm:spPr/>
      <dgm:t>
        <a:bodyPr/>
        <a:lstStyle/>
        <a:p>
          <a:r>
            <a:rPr lang="en-US" dirty="0" smtClean="0"/>
            <a:t>Axes</a:t>
          </a:r>
          <a:endParaRPr lang="en-US" dirty="0"/>
        </a:p>
      </dgm:t>
    </dgm:pt>
    <dgm:pt modelId="{B7E54C95-7283-4F85-8253-B2057190DC92}" type="parTrans" cxnId="{180C8128-9E0E-41DE-80D7-AAC4BDF34E70}">
      <dgm:prSet/>
      <dgm:spPr/>
      <dgm:t>
        <a:bodyPr/>
        <a:lstStyle/>
        <a:p>
          <a:endParaRPr lang="en-US"/>
        </a:p>
      </dgm:t>
    </dgm:pt>
    <dgm:pt modelId="{920F6A19-F1E0-44A0-93A2-70001C8BBE33}" type="sibTrans" cxnId="{180C8128-9E0E-41DE-80D7-AAC4BDF34E70}">
      <dgm:prSet/>
      <dgm:spPr/>
      <dgm:t>
        <a:bodyPr/>
        <a:lstStyle/>
        <a:p>
          <a:endParaRPr lang="en-US"/>
        </a:p>
      </dgm:t>
    </dgm:pt>
    <dgm:pt modelId="{62E39209-D8AB-45B8-83A3-CEA9F1F4ED3E}">
      <dgm:prSet phldrT="[Text]"/>
      <dgm:spPr/>
      <dgm:t>
        <a:bodyPr/>
        <a:lstStyle/>
        <a:p>
          <a:r>
            <a:rPr lang="en-US" dirty="0" smtClean="0"/>
            <a:t>Size</a:t>
          </a:r>
          <a:endParaRPr lang="en-US" dirty="0"/>
        </a:p>
      </dgm:t>
    </dgm:pt>
    <dgm:pt modelId="{D37CA6C5-A23A-42C9-B337-A61816A29275}" type="parTrans" cxnId="{EACE746C-EF7C-44CD-87DB-4A4D0507EDFD}">
      <dgm:prSet/>
      <dgm:spPr/>
      <dgm:t>
        <a:bodyPr/>
        <a:lstStyle/>
        <a:p>
          <a:endParaRPr lang="en-US"/>
        </a:p>
      </dgm:t>
    </dgm:pt>
    <dgm:pt modelId="{0F5C98F0-A460-4BC4-98C8-BD66ECF79D07}" type="sibTrans" cxnId="{EACE746C-EF7C-44CD-87DB-4A4D0507EDFD}">
      <dgm:prSet/>
      <dgm:spPr/>
      <dgm:t>
        <a:bodyPr/>
        <a:lstStyle/>
        <a:p>
          <a:endParaRPr lang="en-US"/>
        </a:p>
      </dgm:t>
    </dgm:pt>
    <dgm:pt modelId="{D35DBE6A-D69A-42F8-96E9-638BCDE7F432}">
      <dgm:prSet phldrT="[Text]"/>
      <dgm:spPr/>
      <dgm:t>
        <a:bodyPr/>
        <a:lstStyle/>
        <a:p>
          <a:r>
            <a:rPr lang="en-US" dirty="0" smtClean="0"/>
            <a:t>Color</a:t>
          </a:r>
          <a:endParaRPr lang="en-US" dirty="0"/>
        </a:p>
      </dgm:t>
    </dgm:pt>
    <dgm:pt modelId="{9DE4855E-7CAA-445F-A107-F067368AC0BA}" type="parTrans" cxnId="{233D05B4-BECC-44E6-8CF1-763531C24CBA}">
      <dgm:prSet/>
      <dgm:spPr/>
      <dgm:t>
        <a:bodyPr/>
        <a:lstStyle/>
        <a:p>
          <a:endParaRPr lang="en-US"/>
        </a:p>
      </dgm:t>
    </dgm:pt>
    <dgm:pt modelId="{686B9A36-427A-4152-8880-3E78AB7C6707}" type="sibTrans" cxnId="{233D05B4-BECC-44E6-8CF1-763531C24CBA}">
      <dgm:prSet/>
      <dgm:spPr/>
      <dgm:t>
        <a:bodyPr/>
        <a:lstStyle/>
        <a:p>
          <a:endParaRPr lang="en-US"/>
        </a:p>
      </dgm:t>
    </dgm:pt>
    <dgm:pt modelId="{DFE592AB-600F-4309-A103-73BD6F4DFA30}">
      <dgm:prSet phldrT="[Text]"/>
      <dgm:spPr/>
      <dgm:t>
        <a:bodyPr/>
        <a:lstStyle/>
        <a:p>
          <a:r>
            <a:rPr lang="en-US" dirty="0" smtClean="0"/>
            <a:t>Texture</a:t>
          </a:r>
          <a:endParaRPr lang="en-US" dirty="0"/>
        </a:p>
      </dgm:t>
    </dgm:pt>
    <dgm:pt modelId="{75383284-97B6-43C2-9FB7-EEC036D0D0A4}" type="parTrans" cxnId="{C3AB068A-52AA-44CE-9C61-127E96EFFEF9}">
      <dgm:prSet/>
      <dgm:spPr/>
      <dgm:t>
        <a:bodyPr/>
        <a:lstStyle/>
        <a:p>
          <a:endParaRPr lang="en-US"/>
        </a:p>
      </dgm:t>
    </dgm:pt>
    <dgm:pt modelId="{19CF8F0E-0238-4671-BB54-5771FD4E05F4}" type="sibTrans" cxnId="{C3AB068A-52AA-44CE-9C61-127E96EFFEF9}">
      <dgm:prSet/>
      <dgm:spPr/>
      <dgm:t>
        <a:bodyPr/>
        <a:lstStyle/>
        <a:p>
          <a:endParaRPr lang="en-US"/>
        </a:p>
      </dgm:t>
    </dgm:pt>
    <dgm:pt modelId="{D6B3321E-CEE8-4C49-9698-8EDF65F7D9BE}">
      <dgm:prSet phldrT="[Text]"/>
      <dgm:spPr/>
      <dgm:t>
        <a:bodyPr/>
        <a:lstStyle/>
        <a:p>
          <a:r>
            <a:rPr lang="en-US" dirty="0" smtClean="0"/>
            <a:t>...</a:t>
          </a:r>
          <a:endParaRPr lang="en-US" dirty="0"/>
        </a:p>
      </dgm:t>
    </dgm:pt>
    <dgm:pt modelId="{BD8EE972-39B2-49F8-8706-BFECD9C90BEF}" type="parTrans" cxnId="{3117EC19-7BC6-4A36-959C-AB3450584093}">
      <dgm:prSet/>
      <dgm:spPr/>
      <dgm:t>
        <a:bodyPr/>
        <a:lstStyle/>
        <a:p>
          <a:endParaRPr lang="en-US"/>
        </a:p>
      </dgm:t>
    </dgm:pt>
    <dgm:pt modelId="{1673FD47-BFC4-4228-BE7C-02D243B84191}" type="sibTrans" cxnId="{3117EC19-7BC6-4A36-959C-AB3450584093}">
      <dgm:prSet/>
      <dgm:spPr/>
      <dgm:t>
        <a:bodyPr/>
        <a:lstStyle/>
        <a:p>
          <a:endParaRPr lang="en-US"/>
        </a:p>
      </dgm:t>
    </dgm:pt>
    <dgm:pt modelId="{2A9C660A-418F-45F5-9889-17C7CCB8946B}">
      <dgm:prSet phldrT="[Text]"/>
      <dgm:spPr/>
      <dgm:t>
        <a:bodyPr/>
        <a:lstStyle/>
        <a:p>
          <a:r>
            <a:rPr lang="en-US" dirty="0" smtClean="0"/>
            <a:t>Maps</a:t>
          </a:r>
          <a:endParaRPr lang="en-US" dirty="0"/>
        </a:p>
      </dgm:t>
    </dgm:pt>
    <dgm:pt modelId="{CBD0D46F-FCA2-4E15-AAA0-EFB65D779D12}" type="parTrans" cxnId="{DC4B8D8E-1FEA-43B4-B96A-24047B3983CF}">
      <dgm:prSet/>
      <dgm:spPr/>
      <dgm:t>
        <a:bodyPr/>
        <a:lstStyle/>
        <a:p>
          <a:endParaRPr lang="en-US"/>
        </a:p>
      </dgm:t>
    </dgm:pt>
    <dgm:pt modelId="{6A5BE55C-48E3-490C-98A8-AEFE5F96DE3D}" type="sibTrans" cxnId="{DC4B8D8E-1FEA-43B4-B96A-24047B3983CF}">
      <dgm:prSet/>
      <dgm:spPr/>
      <dgm:t>
        <a:bodyPr/>
        <a:lstStyle/>
        <a:p>
          <a:endParaRPr lang="en-US"/>
        </a:p>
      </dgm:t>
    </dgm:pt>
    <dgm:pt modelId="{AEB7FF1D-9A00-49F6-AAF2-52649A9CFBE5}">
      <dgm:prSet phldrT="[Text]"/>
      <dgm:spPr/>
      <dgm:t>
        <a:bodyPr/>
        <a:lstStyle/>
        <a:p>
          <a:r>
            <a:rPr lang="en-US" dirty="0" smtClean="0"/>
            <a:t>Legend</a:t>
          </a:r>
          <a:endParaRPr lang="en-US" dirty="0"/>
        </a:p>
      </dgm:t>
    </dgm:pt>
    <dgm:pt modelId="{30FE0DC1-605B-4C56-88FE-4FDBF3DBEAE3}" type="parTrans" cxnId="{5A393652-F690-4BDD-8085-5824A88F495F}">
      <dgm:prSet/>
      <dgm:spPr/>
      <dgm:t>
        <a:bodyPr/>
        <a:lstStyle/>
        <a:p>
          <a:endParaRPr lang="en-US"/>
        </a:p>
      </dgm:t>
    </dgm:pt>
    <dgm:pt modelId="{EDECDED3-431F-428C-87D1-0C4D646ADE3F}" type="sibTrans" cxnId="{5A393652-F690-4BDD-8085-5824A88F495F}">
      <dgm:prSet/>
      <dgm:spPr/>
      <dgm:t>
        <a:bodyPr/>
        <a:lstStyle/>
        <a:p>
          <a:endParaRPr lang="en-US"/>
        </a:p>
      </dgm:t>
    </dgm:pt>
    <dgm:pt modelId="{4E7C2EF3-FA5B-4E6B-9A45-A9A5448CB571}">
      <dgm:prSet phldrT="[Text]"/>
      <dgm:spPr/>
      <dgm:t>
        <a:bodyPr/>
        <a:lstStyle/>
        <a:p>
          <a:r>
            <a:rPr lang="en-US" dirty="0" smtClean="0"/>
            <a:t>Annotate</a:t>
          </a:r>
          <a:endParaRPr lang="en-US" dirty="0"/>
        </a:p>
      </dgm:t>
    </dgm:pt>
    <dgm:pt modelId="{C7DFDD2D-C36C-4898-BE27-75897B9228C1}" type="parTrans" cxnId="{16667559-075F-46BC-93F9-9DA2B4A1E235}">
      <dgm:prSet/>
      <dgm:spPr/>
      <dgm:t>
        <a:bodyPr/>
        <a:lstStyle/>
        <a:p>
          <a:endParaRPr lang="en-US"/>
        </a:p>
      </dgm:t>
    </dgm:pt>
    <dgm:pt modelId="{10D1DC39-C6AF-4438-885E-2B9D13798BB5}" type="sibTrans" cxnId="{16667559-075F-46BC-93F9-9DA2B4A1E235}">
      <dgm:prSet/>
      <dgm:spPr/>
      <dgm:t>
        <a:bodyPr/>
        <a:lstStyle/>
        <a:p>
          <a:endParaRPr lang="en-US"/>
        </a:p>
      </dgm:t>
    </dgm:pt>
    <dgm:pt modelId="{AE694A79-FA45-45EF-B8CF-59F145ACECE2}">
      <dgm:prSet phldrT="[Text]"/>
      <dgm:spPr/>
      <dgm:t>
        <a:bodyPr/>
        <a:lstStyle/>
        <a:p>
          <a:r>
            <a:rPr lang="en-US" dirty="0" smtClean="0"/>
            <a:t>Guidelines</a:t>
          </a:r>
          <a:endParaRPr lang="en-US" dirty="0"/>
        </a:p>
      </dgm:t>
    </dgm:pt>
    <dgm:pt modelId="{EC8DED04-D962-4B26-9B9E-EFE8CF326218}" type="parTrans" cxnId="{A5BD1E41-36DC-4602-94A4-B7D7CB648855}">
      <dgm:prSet/>
      <dgm:spPr/>
      <dgm:t>
        <a:bodyPr/>
        <a:lstStyle/>
        <a:p>
          <a:endParaRPr lang="en-US"/>
        </a:p>
      </dgm:t>
    </dgm:pt>
    <dgm:pt modelId="{B43F49F9-0B3C-4E6B-9C6C-BAC026736AD5}" type="sibTrans" cxnId="{A5BD1E41-36DC-4602-94A4-B7D7CB648855}">
      <dgm:prSet/>
      <dgm:spPr/>
      <dgm:t>
        <a:bodyPr/>
        <a:lstStyle/>
        <a:p>
          <a:endParaRPr lang="en-US"/>
        </a:p>
      </dgm:t>
    </dgm:pt>
    <dgm:pt modelId="{38031109-DD76-48A9-A402-098BA571B0B8}">
      <dgm:prSet phldrT="[Text]"/>
      <dgm:spPr/>
      <dgm:t>
        <a:bodyPr/>
        <a:lstStyle/>
        <a:p>
          <a:r>
            <a:rPr lang="en-US" dirty="0" smtClean="0"/>
            <a:t>Visual Affordances</a:t>
          </a:r>
          <a:endParaRPr lang="en-US" dirty="0"/>
        </a:p>
      </dgm:t>
    </dgm:pt>
    <dgm:pt modelId="{7C2D0300-4E6B-479A-B7A2-F21893644123}" type="parTrans" cxnId="{96206C36-0AB3-429B-B2A4-C0A44F74496E}">
      <dgm:prSet/>
      <dgm:spPr/>
      <dgm:t>
        <a:bodyPr/>
        <a:lstStyle/>
        <a:p>
          <a:endParaRPr lang="en-US"/>
        </a:p>
      </dgm:t>
    </dgm:pt>
    <dgm:pt modelId="{2D5D84E3-06A0-494B-AB88-8C44C8362574}" type="sibTrans" cxnId="{96206C36-0AB3-429B-B2A4-C0A44F74496E}">
      <dgm:prSet/>
      <dgm:spPr/>
      <dgm:t>
        <a:bodyPr/>
        <a:lstStyle/>
        <a:p>
          <a:endParaRPr lang="en-US"/>
        </a:p>
      </dgm:t>
    </dgm:pt>
    <dgm:pt modelId="{A95CDE48-70E9-426B-ADA9-F1A5C0FBF399}">
      <dgm:prSet phldrT="[Text]"/>
      <dgm:spPr/>
      <dgm:t>
        <a:bodyPr/>
        <a:lstStyle/>
        <a:p>
          <a:r>
            <a:rPr lang="en-US" dirty="0" smtClean="0"/>
            <a:t>Text</a:t>
          </a:r>
          <a:endParaRPr lang="en-US" dirty="0"/>
        </a:p>
      </dgm:t>
    </dgm:pt>
    <dgm:pt modelId="{E645F838-9559-472B-A0E3-82FCA90D112D}" type="parTrans" cxnId="{F4235960-EDAE-4BE1-A692-9FDC6342A390}">
      <dgm:prSet/>
      <dgm:spPr/>
      <dgm:t>
        <a:bodyPr/>
        <a:lstStyle/>
        <a:p>
          <a:endParaRPr lang="en-US"/>
        </a:p>
      </dgm:t>
    </dgm:pt>
    <dgm:pt modelId="{395368E9-0A88-4BD3-95B3-C2B5679BA8DE}" type="sibTrans" cxnId="{F4235960-EDAE-4BE1-A692-9FDC6342A390}">
      <dgm:prSet/>
      <dgm:spPr/>
      <dgm:t>
        <a:bodyPr/>
        <a:lstStyle/>
        <a:p>
          <a:endParaRPr lang="en-US"/>
        </a:p>
      </dgm:t>
    </dgm:pt>
    <dgm:pt modelId="{A3795F3B-CDFE-4E56-B959-E2AD9FF2A31F}" type="pres">
      <dgm:prSet presAssocID="{FD24D6CD-5A9F-49AB-B32C-33D1821F26A1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2E6BBF95-2520-4A65-BBC4-C72D21D488EE}" type="pres">
      <dgm:prSet presAssocID="{A92BB3D5-7771-4586-937D-1590B2004369}" presName="composite" presStyleCnt="0"/>
      <dgm:spPr/>
    </dgm:pt>
    <dgm:pt modelId="{B1352B42-5162-4621-91F5-62343818AAA9}" type="pres">
      <dgm:prSet presAssocID="{A92BB3D5-7771-4586-937D-1590B2004369}" presName="parTx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817DAD1-AFC9-4383-9984-8F0F15564BB5}" type="pres">
      <dgm:prSet presAssocID="{A92BB3D5-7771-4586-937D-1590B2004369}" presName="desTx" presStyleLbl="revTx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13CD17F-7E66-495D-835B-0DFFC9E294E8}" type="pres">
      <dgm:prSet presAssocID="{9FCC4D69-C3D0-4FD3-BF5E-F4104BA05DB2}" presName="space" presStyleCnt="0"/>
      <dgm:spPr/>
    </dgm:pt>
    <dgm:pt modelId="{C92BAD21-A33A-4A70-82E9-50A03A2A70A7}" type="pres">
      <dgm:prSet presAssocID="{C2F25FFF-BF9D-46ED-B541-AF74EB441800}" presName="composite" presStyleCnt="0"/>
      <dgm:spPr/>
    </dgm:pt>
    <dgm:pt modelId="{A071FD63-62EF-4E64-9438-E8E09B0D833D}" type="pres">
      <dgm:prSet presAssocID="{C2F25FFF-BF9D-46ED-B541-AF74EB441800}" presName="parTx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8B80DEA-3876-4962-9137-966155C8FE85}" type="pres">
      <dgm:prSet presAssocID="{C2F25FFF-BF9D-46ED-B541-AF74EB441800}" presName="desTx" presStyleLbl="revTx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6107C17-A3DD-48DE-BADC-E6FFD345180A}" type="pres">
      <dgm:prSet presAssocID="{B6C2F8A7-3701-4350-BBAC-248EB081722A}" presName="space" presStyleCnt="0"/>
      <dgm:spPr/>
    </dgm:pt>
    <dgm:pt modelId="{C81DFCB2-45A6-4C64-B886-B96A76EA5D4C}" type="pres">
      <dgm:prSet presAssocID="{2AF95CD2-FBC4-4277-A02E-A93326590B19}" presName="composite" presStyleCnt="0"/>
      <dgm:spPr/>
    </dgm:pt>
    <dgm:pt modelId="{16235652-E6A8-4B4C-9253-58789AEAE32A}" type="pres">
      <dgm:prSet presAssocID="{2AF95CD2-FBC4-4277-A02E-A93326590B19}" presName="parTx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1CDB111-E659-4148-BDD9-0ECA779FA215}" type="pres">
      <dgm:prSet presAssocID="{2AF95CD2-FBC4-4277-A02E-A93326590B19}" presName="desTx" presStyleLbl="revTx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D967271-0E68-4295-9A01-FCA9099133B3}" type="pres">
      <dgm:prSet presAssocID="{12D7D840-B5C7-418C-BB66-6C5DC9752690}" presName="space" presStyleCnt="0"/>
      <dgm:spPr/>
    </dgm:pt>
    <dgm:pt modelId="{FA0210EB-238A-4AF3-A21A-639AA8D6FDFC}" type="pres">
      <dgm:prSet presAssocID="{4E7C2EF3-FA5B-4E6B-9A45-A9A5448CB571}" presName="composite" presStyleCnt="0"/>
      <dgm:spPr/>
    </dgm:pt>
    <dgm:pt modelId="{36F9646C-BB18-49BB-800E-23FA561CC9E9}" type="pres">
      <dgm:prSet presAssocID="{4E7C2EF3-FA5B-4E6B-9A45-A9A5448CB571}" presName="parTx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5C2BC40-2E1D-44DB-ACBD-6173AAFC9BD2}" type="pres">
      <dgm:prSet presAssocID="{4E7C2EF3-FA5B-4E6B-9A45-A9A5448CB571}" presName="desTx" presStyleLbl="revTx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96206C36-0AB3-429B-B2A4-C0A44F74496E}" srcId="{4E7C2EF3-FA5B-4E6B-9A45-A9A5448CB571}" destId="{38031109-DD76-48A9-A402-098BA571B0B8}" srcOrd="1" destOrd="0" parTransId="{7C2D0300-4E6B-479A-B7A2-F21893644123}" sibTransId="{2D5D84E3-06A0-494B-AB88-8C44C8362574}"/>
    <dgm:cxn modelId="{F4235960-EDAE-4BE1-A692-9FDC6342A390}" srcId="{4E7C2EF3-FA5B-4E6B-9A45-A9A5448CB571}" destId="{A95CDE48-70E9-426B-ADA9-F1A5C0FBF399}" srcOrd="2" destOrd="0" parTransId="{E645F838-9559-472B-A0E3-82FCA90D112D}" sibTransId="{395368E9-0A88-4BD3-95B3-C2B5679BA8DE}"/>
    <dgm:cxn modelId="{F6E39BBB-FB08-4F43-B534-2E30802F450D}" srcId="{FD24D6CD-5A9F-49AB-B32C-33D1821F26A1}" destId="{C2F25FFF-BF9D-46ED-B541-AF74EB441800}" srcOrd="1" destOrd="0" parTransId="{9B84F896-E6E3-426F-8E7B-2B865BAC6752}" sibTransId="{B6C2F8A7-3701-4350-BBAC-248EB081722A}"/>
    <dgm:cxn modelId="{1AE6EBC6-6457-4101-BC9B-53D7A5859BC6}" type="presOf" srcId="{A95CDE48-70E9-426B-ADA9-F1A5C0FBF399}" destId="{E5C2BC40-2E1D-44DB-ACBD-6173AAFC9BD2}" srcOrd="0" destOrd="2" presId="urn:microsoft.com/office/officeart/2005/8/layout/chevron1"/>
    <dgm:cxn modelId="{C3AB068A-52AA-44CE-9C61-127E96EFFEF9}" srcId="{C2F25FFF-BF9D-46ED-B541-AF74EB441800}" destId="{DFE592AB-600F-4309-A103-73BD6F4DFA30}" srcOrd="3" destOrd="0" parTransId="{75383284-97B6-43C2-9FB7-EEC036D0D0A4}" sibTransId="{19CF8F0E-0238-4671-BB54-5771FD4E05F4}"/>
    <dgm:cxn modelId="{9954DDC2-41A4-4869-8D5F-6C7AA7F8163B}" type="presOf" srcId="{2AF95CD2-FBC4-4277-A02E-A93326590B19}" destId="{16235652-E6A8-4B4C-9253-58789AEAE32A}" srcOrd="0" destOrd="0" presId="urn:microsoft.com/office/officeart/2005/8/layout/chevron1"/>
    <dgm:cxn modelId="{E68977F3-5E3C-4DEB-B943-CCB48B0759E2}" type="presOf" srcId="{62E39209-D8AB-45B8-83A3-CEA9F1F4ED3E}" destId="{38B80DEA-3876-4962-9137-966155C8FE85}" srcOrd="0" destOrd="1" presId="urn:microsoft.com/office/officeart/2005/8/layout/chevron1"/>
    <dgm:cxn modelId="{E84865F5-3820-4A4B-A486-A3B60BAE13EB}" type="presOf" srcId="{4E7C2EF3-FA5B-4E6B-9A45-A9A5448CB571}" destId="{36F9646C-BB18-49BB-800E-23FA561CC9E9}" srcOrd="0" destOrd="0" presId="urn:microsoft.com/office/officeart/2005/8/layout/chevron1"/>
    <dgm:cxn modelId="{177ED316-9970-4F41-9FD5-C92C4C4D133D}" type="presOf" srcId="{DFE592AB-600F-4309-A103-73BD6F4DFA30}" destId="{38B80DEA-3876-4962-9137-966155C8FE85}" srcOrd="0" destOrd="3" presId="urn:microsoft.com/office/officeart/2005/8/layout/chevron1"/>
    <dgm:cxn modelId="{3117EC19-7BC6-4A36-959C-AB3450584093}" srcId="{C2F25FFF-BF9D-46ED-B541-AF74EB441800}" destId="{D6B3321E-CEE8-4C49-9698-8EDF65F7D9BE}" srcOrd="4" destOrd="0" parTransId="{BD8EE972-39B2-49F8-8706-BFECD9C90BEF}" sibTransId="{1673FD47-BFC4-4228-BE7C-02D243B84191}"/>
    <dgm:cxn modelId="{DC4B8D8E-1FEA-43B4-B96A-24047B3983CF}" srcId="{2AF95CD2-FBC4-4277-A02E-A93326590B19}" destId="{2A9C660A-418F-45F5-9889-17C7CCB8946B}" srcOrd="1" destOrd="0" parTransId="{CBD0D46F-FCA2-4E15-AAA0-EFB65D779D12}" sibTransId="{6A5BE55C-48E3-490C-98A8-AEFE5F96DE3D}"/>
    <dgm:cxn modelId="{D5D4891E-364F-470C-B1ED-F80CB270ED2E}" type="presOf" srcId="{A92BB3D5-7771-4586-937D-1590B2004369}" destId="{B1352B42-5162-4621-91F5-62343818AAA9}" srcOrd="0" destOrd="0" presId="urn:microsoft.com/office/officeart/2005/8/layout/chevron1"/>
    <dgm:cxn modelId="{16667559-075F-46BC-93F9-9DA2B4A1E235}" srcId="{FD24D6CD-5A9F-49AB-B32C-33D1821F26A1}" destId="{4E7C2EF3-FA5B-4E6B-9A45-A9A5448CB571}" srcOrd="3" destOrd="0" parTransId="{C7DFDD2D-C36C-4898-BE27-75897B9228C1}" sibTransId="{10D1DC39-C6AF-4438-885E-2B9D13798BB5}"/>
    <dgm:cxn modelId="{35212FA0-417A-4A92-927D-3AB99BAA899A}" type="presOf" srcId="{698BE57E-1E2A-42E4-B9F2-52F6D96CFE55}" destId="{0817DAD1-AFC9-4383-9984-8F0F15564BB5}" srcOrd="0" destOrd="0" presId="urn:microsoft.com/office/officeart/2005/8/layout/chevron1"/>
    <dgm:cxn modelId="{1F6520F6-A9EE-4D88-9FA6-C2936996E078}" srcId="{FD24D6CD-5A9F-49AB-B32C-33D1821F26A1}" destId="{A92BB3D5-7771-4586-937D-1590B2004369}" srcOrd="0" destOrd="0" parTransId="{9FD8CF54-60DF-45B3-AC1B-FAAB54513484}" sibTransId="{9FCC4D69-C3D0-4FD3-BF5E-F4104BA05DB2}"/>
    <dgm:cxn modelId="{CF359CBA-8047-49AF-85BB-4CC333B8A2DB}" type="presOf" srcId="{C2F25FFF-BF9D-46ED-B541-AF74EB441800}" destId="{A071FD63-62EF-4E64-9438-E8E09B0D833D}" srcOrd="0" destOrd="0" presId="urn:microsoft.com/office/officeart/2005/8/layout/chevron1"/>
    <dgm:cxn modelId="{C0C951DC-FCE4-4F2C-A7E9-EB3F16BEA83C}" type="presOf" srcId="{FD24D6CD-5A9F-49AB-B32C-33D1821F26A1}" destId="{A3795F3B-CDFE-4E56-B959-E2AD9FF2A31F}" srcOrd="0" destOrd="0" presId="urn:microsoft.com/office/officeart/2005/8/layout/chevron1"/>
    <dgm:cxn modelId="{B8418B14-D9E9-4DE1-A747-2984DAFB1DB4}" type="presOf" srcId="{AEB7FF1D-9A00-49F6-AAF2-52649A9CFBE5}" destId="{21CDB111-E659-4148-BDD9-0ECA779FA215}" srcOrd="0" destOrd="2" presId="urn:microsoft.com/office/officeart/2005/8/layout/chevron1"/>
    <dgm:cxn modelId="{3F990DC7-08CD-44CB-A48A-04A5A51A3CF7}" type="presOf" srcId="{702A384C-24DF-413D-B1B4-6335DC8DFE47}" destId="{21CDB111-E659-4148-BDD9-0ECA779FA215}" srcOrd="0" destOrd="0" presId="urn:microsoft.com/office/officeart/2005/8/layout/chevron1"/>
    <dgm:cxn modelId="{EACE746C-EF7C-44CD-87DB-4A4D0507EDFD}" srcId="{C2F25FFF-BF9D-46ED-B541-AF74EB441800}" destId="{62E39209-D8AB-45B8-83A3-CEA9F1F4ED3E}" srcOrd="1" destOrd="0" parTransId="{D37CA6C5-A23A-42C9-B337-A61816A29275}" sibTransId="{0F5C98F0-A460-4BC4-98C8-BD66ECF79D07}"/>
    <dgm:cxn modelId="{7475B3FA-E7FC-49DE-B19A-B4B539B676F2}" srcId="{A92BB3D5-7771-4586-937D-1590B2004369}" destId="{698BE57E-1E2A-42E4-B9F2-52F6D96CFE55}" srcOrd="0" destOrd="0" parTransId="{0C124BBE-8860-424D-BBD0-1F94FA875506}" sibTransId="{D47A50E0-8218-4EF6-85E9-2BBC7ACFB946}"/>
    <dgm:cxn modelId="{B517BAE2-1F09-4622-93C9-4CAA74119AB5}" type="presOf" srcId="{AE694A79-FA45-45EF-B8CF-59F145ACECE2}" destId="{E5C2BC40-2E1D-44DB-ACBD-6173AAFC9BD2}" srcOrd="0" destOrd="0" presId="urn:microsoft.com/office/officeart/2005/8/layout/chevron1"/>
    <dgm:cxn modelId="{D67AF209-7AB8-4929-ADFA-39EB3B5FCC2D}" type="presOf" srcId="{2A9C660A-418F-45F5-9889-17C7CCB8946B}" destId="{21CDB111-E659-4148-BDD9-0ECA779FA215}" srcOrd="0" destOrd="1" presId="urn:microsoft.com/office/officeart/2005/8/layout/chevron1"/>
    <dgm:cxn modelId="{233D05B4-BECC-44E6-8CF1-763531C24CBA}" srcId="{C2F25FFF-BF9D-46ED-B541-AF74EB441800}" destId="{D35DBE6A-D69A-42F8-96E9-638BCDE7F432}" srcOrd="2" destOrd="0" parTransId="{9DE4855E-7CAA-445F-A107-F067368AC0BA}" sibTransId="{686B9A36-427A-4152-8880-3E78AB7C6707}"/>
    <dgm:cxn modelId="{701D5146-2A61-4FC2-AFDC-C49A9638DD97}" srcId="{FD24D6CD-5A9F-49AB-B32C-33D1821F26A1}" destId="{2AF95CD2-FBC4-4277-A02E-A93326590B19}" srcOrd="2" destOrd="0" parTransId="{F75C7796-EAF5-410A-A69D-9381399A18E0}" sibTransId="{12D7D840-B5C7-418C-BB66-6C5DC9752690}"/>
    <dgm:cxn modelId="{6BABE8BB-1266-4D21-B91E-5D86A949DD22}" srcId="{C2F25FFF-BF9D-46ED-B541-AF74EB441800}" destId="{4214C5AF-E63B-4635-BABB-DF78112E1A3E}" srcOrd="0" destOrd="0" parTransId="{B09C2F08-6910-4E21-856D-A070713DCE5C}" sibTransId="{C351E404-F9F1-4F7D-BC40-46E105B66B59}"/>
    <dgm:cxn modelId="{5A393652-F690-4BDD-8085-5824A88F495F}" srcId="{2AF95CD2-FBC4-4277-A02E-A93326590B19}" destId="{AEB7FF1D-9A00-49F6-AAF2-52649A9CFBE5}" srcOrd="2" destOrd="0" parTransId="{30FE0DC1-605B-4C56-88FE-4FDBF3DBEAE3}" sibTransId="{EDECDED3-431F-428C-87D1-0C4D646ADE3F}"/>
    <dgm:cxn modelId="{180C8128-9E0E-41DE-80D7-AAC4BDF34E70}" srcId="{2AF95CD2-FBC4-4277-A02E-A93326590B19}" destId="{702A384C-24DF-413D-B1B4-6335DC8DFE47}" srcOrd="0" destOrd="0" parTransId="{B7E54C95-7283-4F85-8253-B2057190DC92}" sibTransId="{920F6A19-F1E0-44A0-93A2-70001C8BBE33}"/>
    <dgm:cxn modelId="{A5BD1E41-36DC-4602-94A4-B7D7CB648855}" srcId="{4E7C2EF3-FA5B-4E6B-9A45-A9A5448CB571}" destId="{AE694A79-FA45-45EF-B8CF-59F145ACECE2}" srcOrd="0" destOrd="0" parTransId="{EC8DED04-D962-4B26-9B9E-EFE8CF326218}" sibTransId="{B43F49F9-0B3C-4E6B-9C6C-BAC026736AD5}"/>
    <dgm:cxn modelId="{D1668515-AD99-40C9-99B1-F8034AA25A39}" type="presOf" srcId="{4214C5AF-E63B-4635-BABB-DF78112E1A3E}" destId="{38B80DEA-3876-4962-9137-966155C8FE85}" srcOrd="0" destOrd="0" presId="urn:microsoft.com/office/officeart/2005/8/layout/chevron1"/>
    <dgm:cxn modelId="{0081464E-6F2E-47FF-8FD5-403FC3452353}" type="presOf" srcId="{D6B3321E-CEE8-4C49-9698-8EDF65F7D9BE}" destId="{38B80DEA-3876-4962-9137-966155C8FE85}" srcOrd="0" destOrd="4" presId="urn:microsoft.com/office/officeart/2005/8/layout/chevron1"/>
    <dgm:cxn modelId="{27533AAE-BE02-4A0F-AD57-56FA92D38AF7}" type="presOf" srcId="{D35DBE6A-D69A-42F8-96E9-638BCDE7F432}" destId="{38B80DEA-3876-4962-9137-966155C8FE85}" srcOrd="0" destOrd="2" presId="urn:microsoft.com/office/officeart/2005/8/layout/chevron1"/>
    <dgm:cxn modelId="{FDD543C0-E5F1-4A0F-BB88-F983AAF0D83B}" type="presOf" srcId="{38031109-DD76-48A9-A402-098BA571B0B8}" destId="{E5C2BC40-2E1D-44DB-ACBD-6173AAFC9BD2}" srcOrd="0" destOrd="1" presId="urn:microsoft.com/office/officeart/2005/8/layout/chevron1"/>
    <dgm:cxn modelId="{C9AB5717-2361-4421-97E1-A5BD6BA63C07}" type="presParOf" srcId="{A3795F3B-CDFE-4E56-B959-E2AD9FF2A31F}" destId="{2E6BBF95-2520-4A65-BBC4-C72D21D488EE}" srcOrd="0" destOrd="0" presId="urn:microsoft.com/office/officeart/2005/8/layout/chevron1"/>
    <dgm:cxn modelId="{63A940CE-E236-4C47-94EA-A224D0EE68E2}" type="presParOf" srcId="{2E6BBF95-2520-4A65-BBC4-C72D21D488EE}" destId="{B1352B42-5162-4621-91F5-62343818AAA9}" srcOrd="0" destOrd="0" presId="urn:microsoft.com/office/officeart/2005/8/layout/chevron1"/>
    <dgm:cxn modelId="{B01E0DB9-E429-439D-8A03-201AC1A328E4}" type="presParOf" srcId="{2E6BBF95-2520-4A65-BBC4-C72D21D488EE}" destId="{0817DAD1-AFC9-4383-9984-8F0F15564BB5}" srcOrd="1" destOrd="0" presId="urn:microsoft.com/office/officeart/2005/8/layout/chevron1"/>
    <dgm:cxn modelId="{A955B343-F1BF-449F-9EC6-EF3AFD20E685}" type="presParOf" srcId="{A3795F3B-CDFE-4E56-B959-E2AD9FF2A31F}" destId="{C13CD17F-7E66-495D-835B-0DFFC9E294E8}" srcOrd="1" destOrd="0" presId="urn:microsoft.com/office/officeart/2005/8/layout/chevron1"/>
    <dgm:cxn modelId="{9DCC737F-97C5-41FE-951E-72EFA4D103A9}" type="presParOf" srcId="{A3795F3B-CDFE-4E56-B959-E2AD9FF2A31F}" destId="{C92BAD21-A33A-4A70-82E9-50A03A2A70A7}" srcOrd="2" destOrd="0" presId="urn:microsoft.com/office/officeart/2005/8/layout/chevron1"/>
    <dgm:cxn modelId="{AB54B63D-D54C-47AE-98DB-92ACF04B0DE2}" type="presParOf" srcId="{C92BAD21-A33A-4A70-82E9-50A03A2A70A7}" destId="{A071FD63-62EF-4E64-9438-E8E09B0D833D}" srcOrd="0" destOrd="0" presId="urn:microsoft.com/office/officeart/2005/8/layout/chevron1"/>
    <dgm:cxn modelId="{6811309F-42D6-4568-85FE-22B9C0335CEE}" type="presParOf" srcId="{C92BAD21-A33A-4A70-82E9-50A03A2A70A7}" destId="{38B80DEA-3876-4962-9137-966155C8FE85}" srcOrd="1" destOrd="0" presId="urn:microsoft.com/office/officeart/2005/8/layout/chevron1"/>
    <dgm:cxn modelId="{05DB3865-1026-40AA-940B-871A15DDDEE5}" type="presParOf" srcId="{A3795F3B-CDFE-4E56-B959-E2AD9FF2A31F}" destId="{96107C17-A3DD-48DE-BADC-E6FFD345180A}" srcOrd="3" destOrd="0" presId="urn:microsoft.com/office/officeart/2005/8/layout/chevron1"/>
    <dgm:cxn modelId="{3BED63B0-70DE-409B-BE3B-841EB8B7B830}" type="presParOf" srcId="{A3795F3B-CDFE-4E56-B959-E2AD9FF2A31F}" destId="{C81DFCB2-45A6-4C64-B886-B96A76EA5D4C}" srcOrd="4" destOrd="0" presId="urn:microsoft.com/office/officeart/2005/8/layout/chevron1"/>
    <dgm:cxn modelId="{26F0F346-61FD-4CF2-9B7C-E505B5A3C8FB}" type="presParOf" srcId="{C81DFCB2-45A6-4C64-B886-B96A76EA5D4C}" destId="{16235652-E6A8-4B4C-9253-58789AEAE32A}" srcOrd="0" destOrd="0" presId="urn:microsoft.com/office/officeart/2005/8/layout/chevron1"/>
    <dgm:cxn modelId="{8DE90ADC-58E0-47CE-92B9-9C4AB3A79D0E}" type="presParOf" srcId="{C81DFCB2-45A6-4C64-B886-B96A76EA5D4C}" destId="{21CDB111-E659-4148-BDD9-0ECA779FA215}" srcOrd="1" destOrd="0" presId="urn:microsoft.com/office/officeart/2005/8/layout/chevron1"/>
    <dgm:cxn modelId="{0DF3CD06-9103-4B0B-ADF4-0A62CD279787}" type="presParOf" srcId="{A3795F3B-CDFE-4E56-B959-E2AD9FF2A31F}" destId="{AD967271-0E68-4295-9A01-FCA9099133B3}" srcOrd="5" destOrd="0" presId="urn:microsoft.com/office/officeart/2005/8/layout/chevron1"/>
    <dgm:cxn modelId="{C3BBBA42-0F3B-4AC5-B8B3-206ED90C6A8F}" type="presParOf" srcId="{A3795F3B-CDFE-4E56-B959-E2AD9FF2A31F}" destId="{FA0210EB-238A-4AF3-A21A-639AA8D6FDFC}" srcOrd="6" destOrd="0" presId="urn:microsoft.com/office/officeart/2005/8/layout/chevron1"/>
    <dgm:cxn modelId="{79980B13-0129-42FB-B8FB-D2DB3C53D562}" type="presParOf" srcId="{FA0210EB-238A-4AF3-A21A-639AA8D6FDFC}" destId="{36F9646C-BB18-49BB-800E-23FA561CC9E9}" srcOrd="0" destOrd="0" presId="urn:microsoft.com/office/officeart/2005/8/layout/chevron1"/>
    <dgm:cxn modelId="{5D263723-20C3-43F8-BC9D-82A8D98A204D}" type="presParOf" srcId="{FA0210EB-238A-4AF3-A21A-639AA8D6FDFC}" destId="{E5C2BC40-2E1D-44DB-ACBD-6173AAFC9BD2}" srcOrd="1" destOrd="0" presId="urn:microsoft.com/office/officeart/2005/8/layout/chevron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1">
  <dgm:title val=""/>
  <dgm:desc val=""/>
  <dgm:catLst>
    <dgm:cat type="process" pri="9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des" func="maxDepth" op="gte" val="2">
        <dgm:constrLst>
          <dgm:constr type="h" for="ch" forName="composite" refType="h"/>
          <dgm:constr type="w" for="ch" forName="composite" refType="w"/>
          <dgm:constr type="w" for="des" forName="parTx"/>
          <dgm:constr type="h" for="des" forName="parTx" op="equ"/>
          <dgm:constr type="w" for="des" forName="desTx"/>
          <dgm:constr type="h" for="des" forName="desTx" op="equ"/>
          <dgm:constr type="primFontSz" for="des" forName="parTx" val="65"/>
          <dgm:constr type="secFontSz" for="des" forName="desTx" refType="primFontSz" refFor="des" refForName="parTx" op="equ"/>
          <dgm:constr type="h" for="des" forName="parTx" refType="primFontSz" refFor="des" refForName="parTx" fact="1.5"/>
          <dgm:constr type="h" for="des" forName="desTx" refType="primFontSz" refFor="des" refForName="parTx" fact="0.5"/>
          <dgm:constr type="w" for="ch" forName="space" op="equ" val="-6"/>
        </dgm:constrLst>
        <dgm:ruleLst>
          <dgm:rule type="w" for="ch" forName="composite" val="0" fact="NaN" max="NaN"/>
          <dgm:rule type="primFontSz" for="des" forName="parTx" val="5" fact="NaN" max="NaN"/>
        </dgm:ruleLst>
        <dgm:forEach name="Name6" axis="ch" ptType="node"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hoose name="Name7">
              <dgm:if name="Name8" func="var" arg="dir" op="equ" val="norm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if>
              <dgm:else name="Name9">
                <dgm:constrLst>
                  <dgm:constr type="l" for="ch" forName="parTx"/>
                  <dgm:constr type="w" for="ch" forName="parTx" refType="w"/>
                  <dgm:constr type="t" for="ch" forName="parTx"/>
                  <dgm:constr type="l" for="ch" forName="desTx" refType="w" fact="0.2"/>
                  <dgm:constr type="w" for="ch" forName="desTx" refType="w" refFor="ch" refForName="parTx" fact="0.8"/>
                  <dgm:constr type="t" for="ch" forName="desTx" refType="h" refFor="ch" refForName="parTx" fact="1.125"/>
                </dgm:constrLst>
              </dgm:else>
            </dgm:choose>
            <dgm:ruleLst>
              <dgm:rule type="h" val="INF" fact="NaN" max="NaN"/>
            </dgm:ruleLst>
            <dgm:layoutNode name="parTx">
              <dgm:varLst>
                <dgm:chMax val="0"/>
                <dgm:chPref val="0"/>
                <dgm:bulletEnabled val="1"/>
              </dgm:varLst>
              <dgm:alg type="tx"/>
              <dgm:choose name="Name10">
                <dgm:if name="Name11" func="var" arg="dir" op="equ" val="norm">
                  <dgm:shape xmlns:r="http://schemas.openxmlformats.org/officeDocument/2006/relationships" type="chevron" r:blip="">
                    <dgm:adjLst/>
                  </dgm:shape>
                </dgm:if>
                <dgm:else name="Name12">
                  <dgm:shape xmlns:r="http://schemas.openxmlformats.org/officeDocument/2006/relationships" rot="180" type="chevron" r:blip="">
                    <dgm:adjLst/>
                  </dgm:shape>
                </dgm:else>
              </dgm:choose>
              <dgm:presOf axis="self" ptType="node"/>
              <dgm:choose name="Name13">
                <dgm:if name="Name14" func="var" arg="dir" op="equ" val="norm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315"/>
                    <dgm:constr type="rMarg" refType="primFontSz" fact="0.105"/>
                  </dgm:constrLst>
                </dgm:if>
                <dgm:else name="Name15">
                  <dgm:constrLst>
                    <dgm:constr type="h" refType="w" op="lte" fact="0.4"/>
                    <dgm:constr type="h"/>
                    <dgm:constr type="tMarg" refType="primFontSz" fact="0.105"/>
                    <dgm:constr type="bMarg" refType="primFontSz" fact="0.105"/>
                    <dgm:constr type="lMarg" refType="primFontSz" fact="0.105"/>
                    <dgm:constr type="rMarg" refType="primFontSz" fact="0.315"/>
                  </dgm:constrLst>
                </dgm:else>
              </dgm:choose>
              <dgm:ruleLst>
                <dgm:rule type="h" val="INF" fact="NaN" max="NaN"/>
              </dgm:ruleLst>
            </dgm:layoutNode>
            <dgm:layoutNode name="desTx" styleLbl="revTx">
              <dgm:varLst>
                <dgm:bulletEnabled val="1"/>
              </dgm:varLst>
              <dgm:alg type="tx">
                <dgm:param type="stBulletLvl" val="1"/>
              </dgm:alg>
              <dgm:choose name="Name16">
                <dgm:if name="Name17" axis="ch" ptType="node" func="cnt" op="gte" val="1">
                  <dgm:shape xmlns:r="http://schemas.openxmlformats.org/officeDocument/2006/relationships" type="rect" r:blip="">
                    <dgm:adjLst/>
                  </dgm:shape>
                </dgm:if>
                <dgm:else name="Name18">
                  <dgm:shape xmlns:r="http://schemas.openxmlformats.org/officeDocument/2006/relationships" type="rect" r:blip="" hideGeom="1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h"/>
                <dgm:constr type="tMarg"/>
                <dgm:constr type="bMarg"/>
                <dgm:constr type="rMarg"/>
                <dgm:constr type="lMarg"/>
              </dgm:constrLst>
              <dgm:ruleLst>
                <dgm:rule type="h" val="INF" fact="NaN" max="NaN"/>
              </dgm:ruleLst>
            </dgm:layoutNode>
          </dgm:layoutNode>
          <dgm:forEach name="Name19" axis="followSib" ptType="sibTrans" cnt="1">
            <dgm:layoutNode name="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if>
      <dgm:else name="Name20">
        <dgm:constrLst>
          <dgm:constr type="w" for="ch" forName="parTxOnly" refType="w"/>
          <dgm:constr type="h" for="des" forName="parTxOnly" op="equ"/>
          <dgm:constr type="primFontSz" for="des" forName="parTxOnly" op="equ" val="65"/>
          <dgm:constr type="w" for="ch" forName="parTxOnlySpace" refType="w" refFor="ch" refForName="parTxOnly" fact="-0.1"/>
        </dgm:constrLst>
        <dgm:ruleLst/>
        <dgm:forEach name="Name21" axis="ch" ptType="node">
          <dgm:layoutNode name="parTxOnly">
            <dgm:varLst>
              <dgm:chMax val="0"/>
              <dgm:chPref val="0"/>
              <dgm:bulletEnabled val="1"/>
            </dgm:varLst>
            <dgm:alg type="tx"/>
            <dgm:choose name="Name22">
              <dgm:if name="Name23" func="var" arg="dir" op="equ" val="norm">
                <dgm:shape xmlns:r="http://schemas.openxmlformats.org/officeDocument/2006/relationships" type="chevron" r:blip="">
                  <dgm:adjLst/>
                </dgm:shape>
              </dgm:if>
              <dgm:else name="Name24">
                <dgm:shape xmlns:r="http://schemas.openxmlformats.org/officeDocument/2006/relationships" rot="180" type="chevron" r:blip="">
                  <dgm:adjLst/>
                </dgm:shape>
              </dgm:else>
            </dgm:choose>
            <dgm:presOf axis="self" ptType="node"/>
            <dgm:choose name="Name25">
              <dgm:if name="Name26" func="var" arg="dir" op="equ" val="norm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315"/>
                  <dgm:constr type="rMarg" refType="primFontSz" fact="0.105"/>
                </dgm:constrLst>
              </dgm:if>
              <dgm:else name="Name27">
                <dgm:constrLst>
                  <dgm:constr type="h" refType="w" op="equ" fact="0.4"/>
                  <dgm:constr type="tMarg" refType="primFontSz" fact="0.105"/>
                  <dgm:constr type="bMarg" refType="primFontSz" fact="0.105"/>
                  <dgm:constr type="lMarg" refType="primFontSz" fact="0.105"/>
                  <dgm:constr type="rMarg" refType="primFontSz" fact="0.315"/>
                </dgm:constrLst>
              </dgm:else>
            </dgm:choose>
            <dgm:ruleLst>
              <dgm:rule type="primFontSz" val="5" fact="NaN" max="NaN"/>
            </dgm:ruleLst>
          </dgm:layoutNode>
          <dgm:forEach name="Name28" axis="followSib" ptType="sibTrans" cnt="1">
            <dgm:layoutNode name="parTxOnly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4CE056-3965-460C-8513-0495E7AB7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803B4A-8F87-485E-BC69-02012BF2FA5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468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468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468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9240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4680"/>
            <a:ext cx="26496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47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468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2400"/>
            <a:ext cx="401580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4680"/>
            <a:ext cx="8229240" cy="22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720" y="6400800"/>
            <a:ext cx="9142920" cy="456840"/>
          </a:xfrm>
          <a:prstGeom prst="rect">
            <a:avLst/>
          </a:prstGeom>
          <a:solidFill>
            <a:srgbClr val="33333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2920" cy="9129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Northwestern University Information Technology Home"/>
          <p:cNvPicPr/>
          <p:nvPr/>
        </p:nvPicPr>
        <p:blipFill>
          <a:blip r:embed="rId2"/>
          <a:srcRect l="0" t="0" r="28596" b="20128"/>
          <a:stretch/>
        </p:blipFill>
        <p:spPr>
          <a:xfrm>
            <a:off x="1456200" y="6401520"/>
            <a:ext cx="1417320" cy="456840"/>
          </a:xfrm>
          <a:prstGeom prst="rect">
            <a:avLst/>
          </a:prstGeom>
          <a:ln w="0">
            <a:noFill/>
          </a:ln>
        </p:spPr>
      </p:pic>
      <p:sp>
        <p:nvSpPr>
          <p:cNvPr id="3" name="TextBox 14"/>
          <p:cNvSpPr/>
          <p:nvPr/>
        </p:nvSpPr>
        <p:spPr>
          <a:xfrm>
            <a:off x="8278920" y="6445440"/>
            <a:ext cx="837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68AF15B2-EB9A-44EB-9637-A0154F2D3F4B}" type="slidenum"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720" y="6400800"/>
            <a:ext cx="1456920" cy="456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828800"/>
            <a:ext cx="8610120" cy="2057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>
                <a:solidFill>
                  <a:schemeClr val="accent1"/>
                </a:solidFill>
                <a:latin typeface="Tahoma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0"/>
          <p:cNvSpPr/>
          <p:nvPr/>
        </p:nvSpPr>
        <p:spPr>
          <a:xfrm>
            <a:off x="523800" y="137160"/>
            <a:ext cx="819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roduction to Data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ch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7924680" y="6400800"/>
            <a:ext cx="1218960" cy="456840"/>
          </a:xfrm>
          <a:prstGeom prst="rect">
            <a:avLst/>
          </a:prstGeom>
          <a:solidFill>
            <a:srgbClr val="33333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20" y="6400800"/>
            <a:ext cx="9142920" cy="456840"/>
          </a:xfrm>
          <a:prstGeom prst="rect">
            <a:avLst/>
          </a:prstGeom>
          <a:solidFill>
            <a:srgbClr val="33333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2920" cy="9129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Northwestern University Information Technology Home"/>
          <p:cNvPicPr/>
          <p:nvPr/>
        </p:nvPicPr>
        <p:blipFill>
          <a:blip r:embed="rId2"/>
          <a:srcRect l="0" t="0" r="28596" b="20128"/>
          <a:stretch/>
        </p:blipFill>
        <p:spPr>
          <a:xfrm>
            <a:off x="1456200" y="6401520"/>
            <a:ext cx="1417320" cy="456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8278920" y="6445440"/>
            <a:ext cx="837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856E7ABE-98BF-4CF8-BDC4-6D09D2C85DD3}" type="slidenum"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720" y="6400800"/>
            <a:ext cx="1456920" cy="45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80160"/>
            <a:ext cx="4038120" cy="483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Click to edit Master text styles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Times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262626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262626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648320" y="1280160"/>
            <a:ext cx="4038120" cy="483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Click to edit Master text styles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Times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262626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262626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720" y="6400800"/>
            <a:ext cx="9142920" cy="456840"/>
          </a:xfrm>
          <a:prstGeom prst="rect">
            <a:avLst/>
          </a:prstGeom>
          <a:solidFill>
            <a:srgbClr val="33333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2920" cy="91296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Northwestern University Information Technology Home"/>
          <p:cNvPicPr/>
          <p:nvPr/>
        </p:nvPicPr>
        <p:blipFill>
          <a:blip r:embed="rId2"/>
          <a:srcRect l="0" t="0" r="28596" b="20128"/>
          <a:stretch/>
        </p:blipFill>
        <p:spPr>
          <a:xfrm>
            <a:off x="1456200" y="6401520"/>
            <a:ext cx="1417320" cy="456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8278920" y="6445440"/>
            <a:ext cx="837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07A4B9EC-A0CB-4422-8B0B-4904B1964E6A}" type="slidenum">
              <a:rPr b="0" i="1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720" y="6400800"/>
            <a:ext cx="1456920" cy="456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Click to edit Master text styles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Second level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Times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Third level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62626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62626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ifth level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lowingdata.com/" TargetMode="External"/><Relationship Id="rId2" Type="http://schemas.openxmlformats.org/officeDocument/2006/relationships/hyperlink" Target="http://flowingdata.com/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alessandro.febretti@northwestern.edu" TargetMode="External"/><Relationship Id="rId2" Type="http://schemas.openxmlformats.org/officeDocument/2006/relationships/hyperlink" Target="http://bit.ly/CRD2015" TargetMode="External"/><Relationship Id="rId3" Type="http://schemas.openxmlformats.org/officeDocument/2006/relationships/hyperlink" Target="http://bit.ly/vizchallenge" TargetMode="Externa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4439520"/>
            <a:ext cx="6400440" cy="119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essandro Febr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. Interactive Visualization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8600" y="1828800"/>
            <a:ext cx="8610120" cy="2057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>
                <a:solidFill>
                  <a:srgbClr val="800000"/>
                </a:solidFill>
                <a:latin typeface="Tahoma"/>
              </a:rPr>
              <a:t>Introduction to Visualiz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ualization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14060307"/>
              </p:ext>
            </p:extLst>
          </p:nvPr>
        </p:nvGraphicFramePr>
        <p:xfrm>
          <a:off x="118800" y="1591200"/>
          <a:ext cx="9024120" cy="419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ter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6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1" i="1" lang="en-US" sz="2400" spc="-1" strike="noStrike">
                <a:solidFill>
                  <a:srgbClr val="262626"/>
                </a:solidFill>
                <a:latin typeface="Tahoma"/>
              </a:rPr>
              <a:t>Appropriateness Principle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</a:rPr>
              <a:t>– The visual representation should provide neither more nor less information than that needed for the task at hand. Additional information may be distracting and makes the task more difficult. (Norman)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</a:rPr>
              <a:t>Show only what is needed. If you put two dimensions in same plot, make sure there is something interesting about their relation.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</a:rPr>
              <a:t>Decide what’s an appropriate interval.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</a:rPr>
              <a:t>Choose what to do with outliers.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p to Visual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160" y="936720"/>
            <a:ext cx="8823600" cy="56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Categorical vs Continuous data: Texture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6320" y="1471320"/>
            <a:ext cx="4975200" cy="3641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258640" y="5100840"/>
            <a:ext cx="679896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p to Visual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160" y="936720"/>
            <a:ext cx="8823600" cy="56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Categorical vs Continuous data: Texture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330560" y="1596960"/>
            <a:ext cx="6159960" cy="472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p to Visual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160" y="936720"/>
            <a:ext cx="8823600" cy="56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Categorical vs Continuous data: Color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72880" y="1526760"/>
            <a:ext cx="5322600" cy="4044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6031440" y="4316040"/>
            <a:ext cx="1820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p to Visual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8160" y="936720"/>
            <a:ext cx="8823600" cy="56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Categorical vs Continuous data: Color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53600" y="1643760"/>
            <a:ext cx="3591720" cy="461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4325040" y="1758960"/>
            <a:ext cx="441468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p To Visual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960" y="1144080"/>
            <a:ext cx="8229240" cy="1635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Do not map single data dimension to multiple visual dimensions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Typical error: object scale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Keep pixel-to-data ratio high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757840" y="2185560"/>
            <a:ext cx="3060720" cy="40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me The Vis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960" y="988920"/>
            <a:ext cx="8229240" cy="180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Axes &amp; Scale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36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Linear is best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36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Use log scale when needed, but make sure your viewer knows!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36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1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Keep scale consistent!</a:t>
            </a:r>
            <a:endParaRPr b="0" lang="en-US" sz="1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96480" y="2538000"/>
            <a:ext cx="3816720" cy="378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3913560" y="2548080"/>
            <a:ext cx="5138640" cy="37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me The Vis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33840"/>
            <a:ext cx="5339880" cy="180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1" lang="en-US" sz="2800" spc="-1" strike="noStrike">
                <a:solidFill>
                  <a:srgbClr val="262626"/>
                </a:solidFill>
                <a:latin typeface="Tahoma"/>
              </a:rPr>
              <a:t>Don’t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 use 3D to display 1/2D data!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It Can be useless...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90" name="Picture 17" descr=""/>
          <p:cNvPicPr/>
          <p:nvPr/>
        </p:nvPicPr>
        <p:blipFill>
          <a:blip r:embed="rId1"/>
          <a:srcRect l="14628" t="30519" r="0" b="3170"/>
          <a:stretch/>
        </p:blipFill>
        <p:spPr>
          <a:xfrm>
            <a:off x="5340240" y="1023120"/>
            <a:ext cx="3682440" cy="532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2"/>
          <a:stretch/>
        </p:blipFill>
        <p:spPr>
          <a:xfrm>
            <a:off x="53280" y="2743200"/>
            <a:ext cx="5232960" cy="34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me The Vis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4960" y="988920"/>
            <a:ext cx="7150320" cy="180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1" lang="en-US" sz="2800" spc="-1" strike="noStrike">
                <a:solidFill>
                  <a:srgbClr val="262626"/>
                </a:solidFill>
                <a:latin typeface="Tahoma"/>
              </a:rPr>
              <a:t>Don’t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 use 3D axes to display 1/2D data!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Or it can turn your visualization into a lie!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324720" y="2023200"/>
            <a:ext cx="8494200" cy="41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Vis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80160"/>
            <a:ext cx="4480200" cy="483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1/3 of our brain is dedicated to visual processing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40% of </a:t>
            </a:r>
            <a:r>
              <a:rPr b="1" lang="en-US" sz="2800" spc="-1" strike="noStrike">
                <a:solidFill>
                  <a:srgbClr val="262626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 nerve fibers connected to the brain come from the retina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Visualization = high speed link to your cognitive system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42" name="Content Placeholder 8" descr=""/>
          <p:cNvPicPr/>
          <p:nvPr/>
        </p:nvPicPr>
        <p:blipFill>
          <a:blip r:embed="rId1"/>
          <a:stretch/>
        </p:blipFill>
        <p:spPr>
          <a:xfrm>
            <a:off x="5050800" y="2416680"/>
            <a:ext cx="3635640" cy="237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me The Vis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4960" y="988920"/>
            <a:ext cx="8668080" cy="180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MPG Standards with lie factor removed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0" t="-2479" r="0" b="0"/>
          <a:stretch/>
        </p:blipFill>
        <p:spPr>
          <a:xfrm>
            <a:off x="488880" y="1664280"/>
            <a:ext cx="7412040" cy="44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no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4960" y="988920"/>
            <a:ext cx="8668080" cy="83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Visual Affordances help interpret information, avoid mistakes in time-constrained decision making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rcRect l="0" t="0" r="2832" b="0"/>
          <a:stretch/>
        </p:blipFill>
        <p:spPr>
          <a:xfrm>
            <a:off x="0" y="2548080"/>
            <a:ext cx="5232960" cy="252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rcRect l="11629" t="0" r="23742" b="0"/>
          <a:stretch/>
        </p:blipFill>
        <p:spPr>
          <a:xfrm>
            <a:off x="5233320" y="2370240"/>
            <a:ext cx="3699720" cy="2707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5532120" y="5053680"/>
            <a:ext cx="333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bars help disambiguate pain level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783360" y="5176800"/>
            <a:ext cx="3337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Pain level 5 good or b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rcRect l="910" t="271" r="2121" b="16707"/>
          <a:stretch/>
        </p:blipFill>
        <p:spPr>
          <a:xfrm>
            <a:off x="1528920" y="1636920"/>
            <a:ext cx="7569000" cy="4699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no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4960" y="1025280"/>
            <a:ext cx="8640720" cy="103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Mark meaningful events on a plot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Report sources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rcRect l="46628" t="83731" r="10167" b="1959"/>
          <a:stretch/>
        </p:blipFill>
        <p:spPr>
          <a:xfrm>
            <a:off x="264960" y="2225520"/>
            <a:ext cx="3692160" cy="8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6080" y="4974840"/>
            <a:ext cx="8415000" cy="103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 u="sng">
                <a:solidFill>
                  <a:srgbClr val="00cfcf"/>
                </a:solidFill>
                <a:uFillTx/>
                <a:latin typeface="Tahoma"/>
                <a:hlinkClick r:id="rId1"/>
              </a:rPr>
              <a:t>http://flowingdata.com</a:t>
            </a:r>
            <a:r>
              <a:rPr b="0" lang="en-US" sz="2800" spc="-1" strike="noStrike" u="sng">
                <a:solidFill>
                  <a:srgbClr val="00cfcf"/>
                </a:solidFill>
                <a:uFillTx/>
                <a:latin typeface="Tahoma"/>
                <a:hlinkClick r:id="rId2"/>
              </a:rPr>
              <a:t>/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http://www.datavis.ca/gallery/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210" name="Picture 2" descr="http://book.flowingdata.com/images/visualize-this-drop.png"/>
          <p:cNvPicPr/>
          <p:nvPr/>
        </p:nvPicPr>
        <p:blipFill>
          <a:blip r:embed="rId3"/>
          <a:srcRect l="1593" t="0" r="3873" b="2981"/>
          <a:stretch/>
        </p:blipFill>
        <p:spPr>
          <a:xfrm>
            <a:off x="6130440" y="996840"/>
            <a:ext cx="2757600" cy="356580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11" name="Picture 4" descr="http://www.abulsme.com/wp-content/uploads/2013/07/eicover.jpg"/>
          <p:cNvPicPr/>
          <p:nvPr/>
        </p:nvPicPr>
        <p:blipFill>
          <a:blip r:embed="rId4"/>
          <a:srcRect l="0" t="0" r="9719" b="0"/>
          <a:stretch/>
        </p:blipFill>
        <p:spPr>
          <a:xfrm>
            <a:off x="3255120" y="996840"/>
            <a:ext cx="2553120" cy="356580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12" name="Picture 6" descr="http://www.hcibib.org/images/tufte83.jpg"/>
          <p:cNvPicPr/>
          <p:nvPr/>
        </p:nvPicPr>
        <p:blipFill>
          <a:blip r:embed="rId5"/>
          <a:stretch/>
        </p:blipFill>
        <p:spPr>
          <a:xfrm>
            <a:off x="167400" y="996840"/>
            <a:ext cx="2765520" cy="354096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ct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8229240" cy="47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Tahoma"/>
              </a:rPr>
              <a:t>Northwestern Visualization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cfcf"/>
                </a:solidFill>
                <a:uFillTx/>
                <a:latin typeface="Tahoma"/>
                <a:hlinkClick r:id="rId1"/>
              </a:rPr>
              <a:t>alessandro.febretti@northwestern.edu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visualization.northwestern.edu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ahoma"/>
              </a:rPr>
              <a:t>Computational Research Day – Data Viz Challenge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</a:rPr>
              <a:t>Submit a Visualization or Proposal by March 31!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cfcf"/>
                </a:solidFill>
                <a:uFillTx/>
                <a:latin typeface="Tahoma"/>
                <a:hlinkClick r:id="rId2"/>
              </a:rPr>
              <a:t>http://bit.ly/CRD2015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cfcf"/>
                </a:solidFill>
                <a:uFillTx/>
                <a:latin typeface="Tahoma"/>
                <a:hlinkClick r:id="rId3"/>
              </a:rPr>
              <a:t>http://bit.ly/vizchallenge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nt to test your vis sk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6240" y="913320"/>
            <a:ext cx="8830800" cy="534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Northwestern Computational Research Day 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Visualization Challenge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First Year!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NVIDIA GPU &amp; gift card prizes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bmit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ＭＳ Ｐゴシック"/>
              </a:rPr>
              <a:t>complete visualiz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or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ＭＳ Ｐゴシック"/>
              </a:rPr>
              <a:t>proposals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re info: 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  <a:ea typeface="ＭＳ Ｐゴシック"/>
              </a:rPr>
              <a:t>http://bit.ly/vizchallenge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	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217" name="Picture 4" descr="Screen Clipping"/>
          <p:cNvPicPr/>
          <p:nvPr/>
        </p:nvPicPr>
        <p:blipFill>
          <a:blip r:embed="rId1"/>
          <a:srcRect l="13543" t="729" r="10974" b="11319"/>
          <a:stretch/>
        </p:blipFill>
        <p:spPr>
          <a:xfrm>
            <a:off x="71640" y="4258080"/>
            <a:ext cx="3158280" cy="207936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218" name="Picture 5" descr="Screen Clipping"/>
          <p:cNvPicPr/>
          <p:nvPr/>
        </p:nvPicPr>
        <p:blipFill>
          <a:blip r:embed="rId2"/>
          <a:srcRect l="0" t="0" r="36564" b="0"/>
          <a:stretch/>
        </p:blipFill>
        <p:spPr>
          <a:xfrm>
            <a:off x="3366000" y="4258080"/>
            <a:ext cx="2391120" cy="207936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219" name="Picture 6" descr="Screen Clipping"/>
          <p:cNvPicPr/>
          <p:nvPr/>
        </p:nvPicPr>
        <p:blipFill>
          <a:blip r:embed="rId3"/>
          <a:stretch/>
        </p:blipFill>
        <p:spPr>
          <a:xfrm>
            <a:off x="5893200" y="4258080"/>
            <a:ext cx="3158280" cy="207936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-720" y="1354680"/>
            <a:ext cx="9143640" cy="5063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0" y="98532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fatalities by Month/Time of Day. – Do you see any patter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lor-code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-720" y="1353240"/>
            <a:ext cx="9146160" cy="5065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0" y="98532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&amp; Pattern identification becomes much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Visualization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024200"/>
            <a:ext cx="8622360" cy="50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</a:rPr>
              <a:t>Exploratory analysis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You don’t know what is in the data. Visualization helps defining hypotheses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Confirmatory analysis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You know what you are looking for. Visualization helps confirming hypotheses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8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Storytelling</a:t>
            </a:r>
            <a:endParaRPr b="0" lang="en-US" sz="28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You use visualization to communicate a specific message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Informative vs Persuasive visualization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lvl="1" marL="858960" indent="-40176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SzPct val="120000"/>
              <a:buFont typeface="Wingdings" charset="2"/>
              <a:buChar char=""/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ＭＳ Ｐゴシック"/>
              </a:rPr>
              <a:t>Beware of lies and chartjunk!</a:t>
            </a:r>
            <a:endParaRPr b="0" lang="en-US" sz="20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s GOOD Visualization impor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4960" y="11077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Good visualization conveys </a:t>
            </a:r>
            <a:r>
              <a:rPr b="1" lang="en-US" sz="3200" spc="-1" strike="noStrike">
                <a:solidFill>
                  <a:srgbClr val="262626"/>
                </a:solidFill>
                <a:latin typeface="Tahoma"/>
              </a:rPr>
              <a:t>correct 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information </a:t>
            </a:r>
            <a:r>
              <a:rPr b="1" lang="en-US" sz="3200" spc="-1" strike="noStrike">
                <a:solidFill>
                  <a:srgbClr val="262626"/>
                </a:solidFill>
                <a:latin typeface="Tahoma"/>
              </a:rPr>
              <a:t>concisely 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262626"/>
                </a:solidFill>
                <a:latin typeface="Tahoma"/>
              </a:rPr>
              <a:t>effectively.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Bad Visualization can be </a:t>
            </a:r>
            <a:r>
              <a:rPr b="1" lang="en-US" sz="3200" spc="-1" strike="noStrike">
                <a:solidFill>
                  <a:srgbClr val="262626"/>
                </a:solidFill>
                <a:latin typeface="Tahoma"/>
              </a:rPr>
              <a:t>intentional.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Sometimes people’s lives depend on how good a visualization is..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54 London Cholera outbr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982080"/>
            <a:ext cx="5980680" cy="5376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640840" y="982080"/>
            <a:ext cx="3434400" cy="31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llenger Dis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043640"/>
            <a:ext cx="8933400" cy="101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</a:rPr>
              <a:t>Caused by failing O-rings at low temperature. Engineers tried to warn mission management, using this:</a:t>
            </a:r>
            <a:endParaRPr b="0" lang="en-US" sz="24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1904"/>
          <a:stretch/>
        </p:blipFill>
        <p:spPr>
          <a:xfrm>
            <a:off x="1077480" y="1939680"/>
            <a:ext cx="71089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2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llenger Dis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043640"/>
            <a:ext cx="8933400" cy="101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990000"/>
              </a:buClr>
              <a:buSzPct val="12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262626"/>
                </a:solidFill>
                <a:latin typeface="Tahoma"/>
              </a:rPr>
              <a:t>What if this was shown instead?</a:t>
            </a:r>
            <a:endParaRPr b="0" lang="en-US" sz="3200" spc="-1" strike="noStrike">
              <a:solidFill>
                <a:srgbClr val="262626"/>
              </a:solidFill>
              <a:latin typeface="Tahom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4120" y="1860840"/>
            <a:ext cx="9119520" cy="3764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/>
          <p:cNvSpPr/>
          <p:nvPr/>
        </p:nvSpPr>
        <p:spPr>
          <a:xfrm>
            <a:off x="7540560" y="6049440"/>
            <a:ext cx="151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: E. Tuf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2010-Feb-red-gold">
  <a:themeElements>
    <a:clrScheme name="Custom 4">
      <a:dk1>
        <a:srgbClr val="000000"/>
      </a:dk1>
      <a:lt1>
        <a:srgbClr val="ffffff"/>
      </a:lt1>
      <a:dk2>
        <a:srgbClr val="9d0804"/>
      </a:dk2>
      <a:lt2>
        <a:srgbClr val="808080"/>
      </a:lt2>
      <a:accent1>
        <a:srgbClr val="9d0804"/>
      </a:accent1>
      <a:accent2>
        <a:srgbClr val="7d0906"/>
      </a:accent2>
      <a:accent3>
        <a:srgbClr val="c0c0c0"/>
      </a:accent3>
      <a:accent4>
        <a:srgbClr val="212121"/>
      </a:accent4>
      <a:accent5>
        <a:srgbClr val="c7aaaa"/>
      </a:accent5>
      <a:accent6>
        <a:srgbClr val="710705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2010-Feb-red-gold">
  <a:themeElements>
    <a:clrScheme name="Custom 4">
      <a:dk1>
        <a:srgbClr val="000000"/>
      </a:dk1>
      <a:lt1>
        <a:srgbClr val="ffffff"/>
      </a:lt1>
      <a:dk2>
        <a:srgbClr val="9d0804"/>
      </a:dk2>
      <a:lt2>
        <a:srgbClr val="808080"/>
      </a:lt2>
      <a:accent1>
        <a:srgbClr val="9d0804"/>
      </a:accent1>
      <a:accent2>
        <a:srgbClr val="7d0906"/>
      </a:accent2>
      <a:accent3>
        <a:srgbClr val="c0c0c0"/>
      </a:accent3>
      <a:accent4>
        <a:srgbClr val="212121"/>
      </a:accent4>
      <a:accent5>
        <a:srgbClr val="c7aaaa"/>
      </a:accent5>
      <a:accent6>
        <a:srgbClr val="710705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2010-Feb-red-gold">
  <a:themeElements>
    <a:clrScheme name="Custom 4">
      <a:dk1>
        <a:srgbClr val="000000"/>
      </a:dk1>
      <a:lt1>
        <a:srgbClr val="ffffff"/>
      </a:lt1>
      <a:dk2>
        <a:srgbClr val="9d0804"/>
      </a:dk2>
      <a:lt2>
        <a:srgbClr val="808080"/>
      </a:lt2>
      <a:accent1>
        <a:srgbClr val="9d0804"/>
      </a:accent1>
      <a:accent2>
        <a:srgbClr val="7d0906"/>
      </a:accent2>
      <a:accent3>
        <a:srgbClr val="c0c0c0"/>
      </a:accent3>
      <a:accent4>
        <a:srgbClr val="212121"/>
      </a:accent4>
      <a:accent5>
        <a:srgbClr val="c7aaaa"/>
      </a:accent5>
      <a:accent6>
        <a:srgbClr val="710705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9d0804"/>
      </a:dk2>
      <a:lt2>
        <a:srgbClr val="808080"/>
      </a:lt2>
      <a:accent1>
        <a:srgbClr val="9d0804"/>
      </a:accent1>
      <a:accent2>
        <a:srgbClr val="7d0906"/>
      </a:accent2>
      <a:accent3>
        <a:srgbClr val="c0c0c0"/>
      </a:accent3>
      <a:accent4>
        <a:srgbClr val="212121"/>
      </a:accent4>
      <a:accent5>
        <a:srgbClr val="c7aaaa"/>
      </a:accent5>
      <a:accent6>
        <a:srgbClr val="710705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3</TotalTime>
  <Application>LibreOffice/7.4.7.2$Linux_X86_64 LibreOffice_project/40$Build-2</Application>
  <AppVersion>15.0000</AppVersion>
  <Words>540</Words>
  <Paragraphs>115</Paragraphs>
  <Company>Northwestern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22:13:27Z</dcterms:created>
  <dc:creator>Luis A. Nunes Amaral</dc:creator>
  <dc:description/>
  <dc:language>en-US</dc:language>
  <cp:lastModifiedBy>Alessandro Febretti</cp:lastModifiedBy>
  <cp:lastPrinted>2015-02-23T20:51:42Z</cp:lastPrinted>
  <dcterms:modified xsi:type="dcterms:W3CDTF">2015-03-23T19:59:30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5</vt:r8>
  </property>
</Properties>
</file>